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B8F-9D9F-4ADA-9E44-59DEB157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7BE-1502-4B96-915C-E02BD01B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CBD-AB7B-4D8C-97C6-9686E6C3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67B-3452-4419-BFBC-A12BE26A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AB3-017E-419E-9978-FD790455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6A5-A779-4F8B-82A4-D9D3E84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75C-89B8-4678-9F7A-B26C2AAF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381-912B-40E4-ADBA-F69CBA8D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FD5-0E5D-41B7-81A3-18F7C721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FB5-B1D1-4E76-A10C-DAC899C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75C-AC24-4644-8C67-AC6C8D3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7D3-96F1-4237-8F00-B86279E6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65B6-262B-4A59-A03B-8AE40E8E8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iestaracing.com/frontpage/siesta_hyc_small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Marcel Ma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352680" y="457200"/>
            <a:ext cx="27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 Famil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04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M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P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486400" cy="2301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65760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0384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Fr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299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4116240"/>
            <a:ext cx="3905280" cy="262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34671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Ch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961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Fr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048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9:52:43Z</dcterms:created>
  <dc:creator>10lamphm</dc:creator>
  <dc:description/>
  <dc:language>en-US</dc:language>
  <cp:lastModifiedBy>10lamphm</cp:lastModifiedBy>
  <dcterms:modified xsi:type="dcterms:W3CDTF">2008-05-13T20:12:41Z</dcterms:modified>
  <cp:revision>3</cp:revision>
  <dc:subject/>
  <dc:title> </dc:title>
</cp:coreProperties>
</file>